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camera.wav" ContentType="audio/x-wav"/>
  <Override PartName="/ppt/media/whoosh.wav" ContentType="audio/x-wav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944-045B-4A97-9B80-533CEB89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0C0E-FAF4-438D-A57D-BFD804B4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A15-7418-49C5-A491-2704D1F8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9A85-175A-477E-AAFC-41977102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650-F387-4272-AACC-35EF0BFA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B97-B3D3-4AB6-B74A-F36883DE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7CC-ABA2-4C37-92FD-9F34D8B0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B1A-99B8-490F-A8DF-C18275F3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AC0-3AF0-43CA-A7B8-3CE1E705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76A9-04B0-4CFA-8C2B-F97D74C7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631-C8E6-4618-BAE3-66949C8C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4821-43DB-4478-A107-99785E2D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7262-6C1A-42B0-A70A-1F5D45473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75076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кутна бубрежна инсуфицијен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1695600" cy="236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 Фазa опoравкa – полиурi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траје нeколико дан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апетиt се поpрављa, али болесник “мршави” због појачaне диурез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нагли пораст осмoтски iзаzвaне диурезe јављa се као пoследица бржег опoравкa гломерулске од тубuлских функ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побoљшање општег стањa праћено је нормализацијом биохемијских парaметар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абораторијске анали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реглед урина – седимент, уринокултура, биохем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реглед крв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електролити серума (К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Na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Cа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P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ацидобазно стање (pH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уреа и креатинин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Мерење диурезе (катетер у м. бешици првих 48 са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Диференцијална дијагноза А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1981080"/>
          <a:ext cx="7924680" cy="4141800"/>
        </p:xfrm>
        <a:graphic>
          <a:graphicData uri="http://schemas.openxmlformats.org/drawingml/2006/table">
            <a:tbl>
              <a:tblPr/>
              <a:tblGrid>
                <a:gridCol w="4000680"/>
                <a:gridCol w="2232000"/>
                <a:gridCol w="169200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KSI AB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RENAL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NAL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MOLALNOST UR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MOLALNOST urin/plaz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EA urin/plaz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ATININ urin/plaz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 u URINU (m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Na   (uNa/pNa) :  (uCr/pCr) x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I    uNa : (uCr/pC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Терапија пре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споставити нормалну перфузију бубрега и диурез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20-30ml/kg 0,9%NaCl za 30 м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1-5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г/kg/min Dopamin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2-5mg/kg Furоseми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о диреза не наступи за 2-4h сматра се да је дошло до структурних оштећења бубре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Терапиј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Ограничити унос течности на 300-350ml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24h или 15мл/кг плус екстра губитци (повраћање, пролив, знојењ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ориговати електролитни дисбалан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K &gt; 7,5mmol/l : 0,2-05ml/kg 10% Ca-glukonatа iли 2-3ml/kg NaHCO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или инфузија глукозe sа инсулино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К &gt; 6,5mмol/л : 0,5g/kg орално u 100ml 10% глукозе сmolе за размену kатјо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Ca &lt; 2mмol/kg : 0,5ml/kg Ca-glukonat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ориговати ацидобазни дисбалан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pH &lt; 7-7,2 : 2-3ml/kg N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Обезбедити одговарајући калоријски унос давањем хипертоног раствора глукозе (400Kcal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24h) чиме се смањује катаболизам, азотемија и хиперкалиј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Индикације за дијализ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нурија која траје дуже од 24-48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огоршање “уремичног стања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 &gt; 7,5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a &lt; 120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H &lt; 7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rea &gt; 40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Лора залива цвећ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1" descr="Lora zaliva cvece"/>
          <p:cNvPicPr/>
          <p:nvPr/>
        </p:nvPicPr>
        <p:blipFill>
          <a:blip r:embed="rId1"/>
          <a:stretch/>
        </p:blipFill>
        <p:spPr>
          <a:xfrm>
            <a:off x="1752480" y="1600200"/>
            <a:ext cx="5334120" cy="472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кутна бубре</a:t>
            </a: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жна инсуфицијен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АБИ је клиничко стање које карактерише нагло смањење функције бубрега у тој мери да не може да се одржи водено електролитна хомеостаза и излуче продукти азотног метаболиз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олигоанурија: диуреза мања од 200-250 мl/м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/2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или мања од 10 мl/h код малог детета или мања од 0,5-1мl/кg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повећање концентрације урее и креатинина у серуму за 2 до 2,5 пута у односу на референтне вредности за узраст дет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Подела АБИ по етиопатогенез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Пре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ренална хипоперфузија и смањење ЈGF (реверзибилно, без с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руктурног оштећењ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о исхемија предуго траје долази до органских промена на тубулима и развоја акутне тубуларне некро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Пост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настаје због опструкције уринарних пут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пре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Хемодинамски факт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хемораг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тешка дехидрација (повраћање и проли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шок (септички, постоператив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губитак у “трећи простор” (асцитес, плеурални изли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Срчана инсуфицијен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Токсични факт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ендогени (миоглобин, хемоглобин, кристал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егзогени (антибиотици, тешки метал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остисхемична АБ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акутна тубулска н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роз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Гломерулонефрити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APGN, рапидно прогресив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Васкулит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HUS, DIK, тромбозе и емболиј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Интерстицијски нефрити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инфекције, лекови)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утизација ХБ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JGF пада за 1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пост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Опструктив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ропат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конгениталне (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VP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стеч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Калкуло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Тум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ренал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екстраренал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Клиничка слика пререналне А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Зависи од уз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 деце и одојчади преренална АБИ најчешће настаје збод тешке дехидрације (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сува кожа без тургора и еластицитета, суве слузокоже, упале очне јабучице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коју прате симптоми циркулаторне инсуфицијенције (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бледило, хладни екстремитети, хипотензија, слаб и убрзан пулс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Класичан клинички ток АБИ пролази кроз три јасно дефинисана клиничка стадију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Иницијална фа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траје неколио дана до две недељ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болесник често није ни свестан обољења, може да има изражен “централни” осећај жеђ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јачина диурезе и осмоларност урина су смањени (Uosm = 350mosм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Фаза одржав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траје неколико сати до једне недељ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знаци прогресивне азотемије: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бледило, малаксалост, отоци лица, ацидотично дисање, губитак апетита, повраћање, штуцање, грче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појава компликација: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едем плућа, енцефалопатија, дигестивна крварења, инфек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олигоанурија уз пораст осмоларности урина на Uosm = 1000mosм/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дневни пораст азотемије и електролитних поремећа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20:49:49Z</dcterms:created>
  <dc:creator>Impuls</dc:creator>
  <dc:description/>
  <dc:language>en-US</dc:language>
  <cp:lastModifiedBy>User</cp:lastModifiedBy>
  <dcterms:modified xsi:type="dcterms:W3CDTF">2015-09-14T10:56:04Z</dcterms:modified>
  <cp:revision>25</cp:revision>
  <dc:subject/>
  <dc:title>Akutna bubrežna insuficijencija</dc:title>
</cp:coreProperties>
</file>