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FA1-F285-4717-AF57-3B3AB442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E0D-780B-4131-A11C-BB606B6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F9-B97B-4A26-BDDB-F3B5563D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370-E818-4079-9AF1-15DA89C8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407C-8982-43BC-94B5-6C3513DB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B05-2607-4B37-B0A0-203224F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EF6C-1333-42D0-BA24-BAC847F0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CCD-DDE1-4B54-BB04-01EBFAEA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F5A-CBDD-45E7-813A-F4B041E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F7A-E5AF-4CB0-8B02-1D015D4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C0C-E87C-4136-B243-8FA6EF4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A71-F8F0-4EC4-8CEB-7B7C1BB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E290-E939-4EF4-8870-DABEA69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89B-4667-4824-9417-F34760A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912E-CB0E-417A-BBCE-B1A9731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292B-F02A-4C81-877F-4FEF3B15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5F8B-C826-4ED9-86AE-CA275A28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D64-9E98-4AB5-AC1D-CD0CA538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A16-7924-4F14-86DE-AAC99D69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C59-EC5D-41CC-AFA6-8D4C045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E48-6074-442C-96D2-30B1EA1A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4D1-2A68-4408-A8B0-A6A6D7CA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F81-7D7F-4D77-8437-9DB45AD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DE4-BD28-436D-BFFF-05DB04D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744-4EB2-400B-A02C-19CEB21F5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FC4-6194-4944-A3CF-45448275E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cbi.nlm.nih.gov/sites/entrez?Db=pubmed&amp;Cmd=Search&amp;Term=%22Sargent%20MA%22%5BAuthor%5D&amp;itool=EntrezSystem2.PEntrez.Pubmed.Pubmed_ResultsPanel.Pubmed_DiscoveryPanel.Pubmed_RVAbstractPlus" TargetMode="External"/><Relationship Id="rId2" Type="http://schemas.openxmlformats.org/officeDocument/2006/relationships/hyperlink" Target="javascript:AL_get(this,%20&apos;jour&apos;,%20&apos;Pediatr%20Radiol.&apos;);" TargetMode="External"/><Relationship Id="rId3" Type="http://schemas.openxmlformats.org/officeDocument/2006/relationships/hyperlink" Target="http://www.ncbi.nlm.nih.gov/sites/entrez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у дец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оф. Др 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Ана Вуј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најчешће изазване бактеријама из цревне флоре изузимајући новорођенчад код којих чешће настају хематоге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актерије из цревне флоре доспевају асцедентним путем у УТ. У око 85 –90 % узрочник је Е. цоли. Протеус се релативно чешће налази код мушке деце, а Клебсиелла- Ентеробацтер код новорођенча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5-7% ИУТ узрочници су грам-позитивни микроорганизми, ентерокок и стафилокок, укључујући и коагулаза негативни стафилокок код девојчица у пуберте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хоспиталним условима, нарочито након уролошких интервенција, изолују се Псеудомонас и Клебсие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по правилу проузроковане једним узрочни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иохемијско-лабораторијске анализ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намн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Times New Roman"/>
              </a:rPr>
              <a:t>Анамнезом</a:t>
            </a: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 о акутно насталој болести треба документовати степен и трајање фебрилности, симптоме од стране УТ, скорашње болести, претходно коришћене антибиотике.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66ff"/>
                </a:solidFill>
                <a:latin typeface="Times New Roman"/>
              </a:rPr>
              <a:t>ЛА: симптоми од стране УТ: инконтиненција, неправилан млаз урина, учестало мокрење; раније доказан ВУР или епизоде неразјашњене фебрил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ПА: ВУР, ожиљна нефропатија и генитоуринарним ненормалностим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линички симптоми ИУТ зависе од узраста, локализације инфекције, постојања аномалија УТ и других чинила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ворођенчад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лика септикемије: фебрилоност, повраћање, дијареја, одбијање оброка, иритабилнос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 и деца у прве три године живот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фебрилност, дигестивна симптоматологија, слабије напредовање, плач при мокрењу, као и промена карактеристика урина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тарија деца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АПН 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(фебрилност ≥ 38,5˚Ц, бол у леђима или абдомену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Циститис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(дизурија, фебрилност &lt; 38˚Ц, полакиурија, супрапубисни бол, појава ноћне енурезе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изик је повећан ако су присутни малнутриција и хронична дијаре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еглед де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суспектном ИУТ треба да обухвати све органске системе са нагласком на палпацију абдомена, мокраћне бешике и бубрега, затим преглед спољашњих гениталија, перианалног и лумбосакралног предел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Мерење крвног притис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Биохемијско-лабораторијске анализ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реглед у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утински преглед свежег узорка  урина омогућава да се постави вероватна дијагноза ИУТ и започне лечење у очекивању резултата бактериолошког прегледа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Три најкориснија елемента за евалуацију могуће ИУТ су доказивање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нитрита, леукоцитне естеразе и пиур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ози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леукоцитном естеразом или нитритима, више од 5 Ле на видном пољу, налаз бактерија у узорку урина обојеног по граму са високом вероватноћом указује на И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ега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нитритима и леукоцитном естеразом или негативна микропсија за пиурију и бактеријурију искључују дијагнозу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66ff"/>
                </a:solidFill>
                <a:latin typeface="Times New Roman"/>
              </a:rPr>
              <a:t>Бактериолошки преглед у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ефинитнивна дијагноза ИУТ потврђује се бактериолошким прегледом урина-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ринокултуром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тј налазом сигнификантне бактериурије- порастом одређеног броја бактерија у јединици волумена урина. Критеријум за сигнификантност зависи од начина узимања узорка урина за прегле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(ИУТ) су друге по учесталости бактеријске инфекције у деце и захватају 1% дечје популациј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не су значајне у структури акутног морбидитета да укажу на постојећу абнормалност уринарног тракта (УТ) и могу да буду узрок ожиљне нефропатије која представља ризик за дугорочне секве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imes New Roman"/>
              </a:rPr>
              <a:t>Критеријуми за дијагнозу ИУТ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765000" y="1366920"/>
          <a:ext cx="770760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366920"/>
                    <a:ext cx="770760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Локализација инфек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тврђивање локализације ИУТ, тј. разликовање АПН од циститиса у пракси се врши на основу критеријума наведених у таб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3"/>
          <p:cNvGraphicFramePr/>
          <p:nvPr/>
        </p:nvGraphicFramePr>
        <p:xfrm>
          <a:off x="163440" y="453960"/>
          <a:ext cx="885996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453960"/>
                    <a:ext cx="885996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Лечење треба да се започне одмах по узимању узорка урина за бактериолошки преглед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иљ лечења акутне ИУТ је ублажавање и нестанак тегоба, ерадикација инфекције и редукција ризика за трајно оштећењ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Хоспитализација је индикован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новорођенчад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одојчади у 2. и 3. месецу и све фебрилне деце узраста до 2 годин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деце &gt; 2 године са компликованом И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оворођенчад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 ИУТ треба да се лече по важећем протоколу за терапију сепс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, деца узраста до 3 године и деца с компликованом ИУ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треба да добијају антибиотике парентерал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Иницијална терапија АП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аренте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ИИИ генерације (цефтриаксон или цефотаксим) или гентамицин (алтернатива: тобрамицин или нетилмиц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еро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треће генерације (цефиксим, цефтибутен), друге (цефаклор, цефпрозил) или прве (цефалексин, цефадрокси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, амоксицилин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се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не препоручују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за иницијалну терапију због високог процента резистентних сојева Е. ц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 или амоксицилин/клавуланат могу да се комбинују са цефалоспориним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ли аминогликозидима ако постоји оправдана сумња да је узрочник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Ентероцоцус 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(налаз грам- позитивних кока у седименту урина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 и нитрофурантои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терапији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П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јер не постижу терапијске концентрације у крви и ткиву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Флуорохинолон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ницијалној терапиј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њихова примена може да буде индикована само на основу резултата антибиогра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Терапија АПН траје 7-14 да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10-14 дана лечење се препоручује код одојчади и деце са компликованом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имптомска терапиј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АПН обухвата повећан унос течности ( за 50% већи од уобичајеног) и парацетамол као антипиретик/аналгет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г ИУТ није увек лака: она често изостане или је задоцнела код одојчади или мале деце код које симптоми могу бити минимални и често неспецифични. Ова група има навећи ризик за трајно оштећење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рза дијагноза и лечење ИУТ имају за циљ да се превенира или смањи акутни морбидитет и да се умањи ризик за настанак ожиљне нефропатије и њених дугорочних секв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кутни цистити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Пер о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5-7 дана за млађу и 3-5 дана за старију децу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од И до ИИИ генерације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или нитрофурантоином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као лековима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прв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лекови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друг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отримоксазол и ампицилин/амоксицилин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мање подесни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због високог процента резистентних сојева Е. цоли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филакс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о излечењу ИУТ треба дати медикаментну профилаксу најмање до завршетка испитивањ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За профилаксу су погодни </a:t>
            </a: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И и ИИ генерације (за одојчад), нитрофурантоин, амоксицилин/клавуланат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цена риз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Чиниоци ризика за ожиљну нефропатију јесу: млађи узраст (нарочито прва година живота), мушки пол, закаснела антимикробна терапија, рецидиви пијелонефритиса, ВУР са дилатацијом, ВУР у породици, опструкционе аномалије, хипоплазија или дисплазија бубрега, нон- Е. цоли узрочник инфекц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излечења прве доказане ИУТ сва деца треба да буду испитана ради откривања ненормалности 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поруке кроз смернице за испитививање нису уједначене и међуњима постоје значајне разлике, нарочито у погледу индикација за микционуцистоуретерографију (МЦУГ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55440" y="1023840"/>
          <a:ext cx="904104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023840"/>
                    <a:ext cx="904104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евенција и лечење рецидива ИУ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66ff"/>
                </a:solidFill>
                <a:latin typeface="Times New Roman"/>
              </a:rPr>
              <a:t>За превенцију рецидива препоручује се: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већан унос течности ради повећања диуре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Редовно мокрењ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тпуно пражњење бешике уз мокрење у “два акта”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евенција и лечење констипациј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Одржавање хигијене перинеум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ечење цревне паразито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ацтобациллус ацидопхилу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Медикаментна профилакса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66ff"/>
                </a:solidFill>
                <a:latin typeface="Times New Roman"/>
              </a:rPr>
              <a:t>Антибиотска профилакса се препоручу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о излечењу прве ИУТ, до МЦУГ код деце узраста до 2 године и код деце узраста до 5 година са компликованом ИУ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ВУР-о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пацијената са ожиљком на сцинтиграфији и онда када ВУР није доказ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фебрилним рецидивима (≥ 3/12 месеци) и онда када је УТ норма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За профилаксу се користе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ефалоспорини И и ИИ генерациј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амоксицилин/клавулана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тримоксазо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нитрофурантоин, налидиксинска и пипемидинска кисели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 потеби и флуорохиноло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ада нема довољно чврдстих доказа о ефикасности препарата бруснице, они могу да се користе за профилаксу ИУТ с обзиром да су нешкодљив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езикоуретерални рефлукс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ВУ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о пубертета, дијагноза се постави приближно у 1 % дечака и 3-5 % девојчиц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општој популацији деце се процењује на 0,4 до 1,8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деце са ИУТ износи око 31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Саргент М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хат ис тхе нормал преваленце оф ВУР?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Педиатр Радиол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000 Сеп; 30(9):587-93.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хттп://www.нцби.нлм.них.гов/ситес/ентре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приступ сајту 12.04.2008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VUR može biti primaran i sekundar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им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има тенденцију да се са узрастом детета губи, јер за то време интравезикални део уретера повећава своју дужину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екунд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е јавља често удружен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ектопичним уретерима или дупликацијама уретер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себно треба указати на појаву ВУР-а у болесника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урогеном дисфункцијом мокраћне бешик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зависности од тога у којој мери приликом МУЦГ контраст испуњава уретер и пелвикаликсни систем, као и од величине дилатације овог систем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се конвенционално градира у В степен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ff"/>
                </a:solidFill>
                <a:latin typeface="Times New Roman"/>
              </a:rPr>
              <a:t>ВЕЗИКОУРЕТЕРАЛНИ РЕЛУК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Нормалaн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буbрег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 степeн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I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уретeр и мокра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на беш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68360" y="443700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Благa диlaтaцiјa        Умерeнa dilatacija уretera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 Дi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la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uretera i каrлice              зaraвљенe 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шиц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Клиничка сл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симптоматска аномалиј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, поготову ако је И, ИИ и ИИИ степена има тенденцију да се изгуби и ово се дешава у више од 50% случајева, нарочито у млађем узраст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Склоност ка ожиљавању је, међутим, бнајвећа у првим годинама живота, тј. код одојч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оказано је да се  ожиљавање дешава само у првих 5-7 год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Новорођенчад и одојчад мушког пола чешће обољевају у првој години, а у свим другим узрастним групама женска деца су у већем ризику који је до седме године већи за 4 до 5 пу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се налази код око 5 % деце узраста до 2 године са фебрилношћу непознате етиологије, а 2-3 пута чешће код женске де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олесници са благим степеном ожиљавања, поготову ако немају протеинурију (или не већу од 500 мг/24х), са  нормалним с. креатинином, обично у каснијем животу немају компликациј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рефлуксна нефропат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(РН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Ожиљавање бубрега и редукција бубрежног паренхима се дијагностикује помоћу ИВП или/и ДМСА сцинтиграфи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ромене на ИВП-у које су карактеристичне за РН је још 1960. год. описао Ј. Ходсо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анас је прихваћено да се степен ожиљавања бубрега дефинише по класификацији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J. Smell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постојање интрареналног рефлукса,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уринарна инфекциј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3366ff"/>
                </a:solidFill>
                <a:uFillTx/>
                <a:latin typeface="Times New Roman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ИРОДАН ТОК БОЛЕСТИ  </a:t>
            </a:r>
            <a:r>
              <a:rPr b="1" lang="sr-CS" sz="3600" spc="-1" strike="noStrike">
                <a:solidFill>
                  <a:srgbClr val="3366ff"/>
                </a:solidFill>
                <a:latin typeface="Times New Roman"/>
              </a:rPr>
              <a:t>УРН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3 фазе: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чиње  у  одојчета и малог детета. Долази до  иреверзибилног  оштећења паренхим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Може бити асимптоматска. Хипертензија и протеинурија нису запаже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3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јчешће  се болесници јављају са израженом хипертензијом  или  бубрежном исуфицијенциј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И и ИИ степена, и највећи број ИИИ   степена треба лечити  конзерватив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  В  степена- хирушки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ВУР-а  ИИИ  и ИВ  до сада  завршене студије не показују   значајне разлике у начину лечења.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Превен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Благовремено лечење уро-инфекција у одојчади и мале деце, при првој инфекциј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осле лечења доказане инфекције  урадити потребна испитив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 деце из породица  са ризиком саветује се  Ехо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прве инфекције уротракта у року од 12 месeци рецидiви се јављају u 30 %. Значaјан број ове децe има конгениталне аномалије УТ, најчешe везикоуретeрални рефлукс (ВУР) који се налaзи iзмеђу 40-50 % у нашој средин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ефини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д ИУТ подразумева се присуство сигнификантне бактериурије у 1 мл урина или било који раст бактерија на култури добијеној супрапубичном пункцијом мокраћне беши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је дефинисана налазом (порастом) сигнификантног броја једне врсте бактерија у урину код пацијента са инфламационом реакцијо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симптоматска бактериури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је сигнификантан налаз бактериурие у 2 узастопна узорка код деце без симптома запалења уринарног тракта.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симптоматска бактериурија је  чешћа у мушке одојчади, али се у предшколском и школском узрасту однос мења и налази се до 2 % у корист девојчи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3"/>
          <p:cNvGraphicFramePr/>
          <p:nvPr/>
        </p:nvGraphicFramePr>
        <p:xfrm>
          <a:off x="457200" y="685800"/>
          <a:ext cx="8353440" cy="59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3534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5-12-02T08:31:09Z</dcterms:modified>
  <cp:revision>34</cp:revision>
  <dc:subject/>
  <dc:title>No Slide Title</dc:title>
</cp:coreProperties>
</file>