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0362-8125-449E-B7E2-7C2292BE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651-A4A1-4265-AB83-A2EDB535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17CF-3C8F-4F94-8146-A5C2077F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F39-FA9D-4BEE-ACD6-BD9B7C3B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886-F29F-4159-ABCF-AD34966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D33-42E7-445D-94DD-F08703F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69F-2651-4D87-BE4E-4E89375D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334C-7463-41EF-B2B8-DD1254B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B2E3-F14E-41DF-A0FC-D90D64D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2631-CB13-4FD3-A613-DC477BB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1B32-6175-42FD-8CC2-4C33D78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F981-DC7B-469C-BC45-3A046D9F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A1F1-248A-4BEE-9CE1-6733719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22F-CD04-42EC-AC36-2FCC981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351-17D1-44D9-BF99-AD1B509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C4FD-1718-4235-BC54-3B7FB2F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D644-F9DB-40E1-8A2F-3BE34C1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77A6-87CF-494A-B0D7-CA3CE2E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B20-BBF5-49E8-81BC-FC5E1CCD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DD2E-21CD-455A-9CA0-9845C6DE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567-EB82-4268-84C1-0396760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433-6C14-42B9-8C1D-8D30902F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270-8CBF-442A-9C32-03F0AF1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781-8D2B-4269-8C5F-A4B9DE7F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105-15FB-47AE-9E35-81BF7A2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65B-1F94-4E64-A0D0-92C0216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15E-8A71-45CE-A47A-854C3A3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629-63D5-4DA9-97A0-41FD6C0A28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C60E-3DF1-4F6E-825E-B4EA38F8F9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edicinski_120"/>
          <p:cNvPicPr/>
          <p:nvPr/>
        </p:nvPicPr>
        <p:blipFill>
          <a:blip r:embed="rId1"/>
          <a:stretch/>
        </p:blipFill>
        <p:spPr>
          <a:xfrm>
            <a:off x="3857760" y="13572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250920" y="300276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Доц др Ана Вуји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547640" y="2852640"/>
            <a:ext cx="674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ЕФРОТСКИ СИНДРОМ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Патофиз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Хипертен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зија је трећи кардинални знак АПСГН и евидентирана је код 50-90% деце хоспитализоване због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Ови пацијенти имају тешку хипертензију (200/120mm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Hg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 ; аускултацијом плућа чују се инспираторо-експираторни пук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тзв телерадиографији, мада је ср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Диференцијална дија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А-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IgA нефритiсi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Кадa се испоље симптом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АПСГН л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ја гломерула се в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догoдила и процес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злечeња је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ео. То значи да је прекасно за примену специфiчне терапије против узрочника нефритiса. Супротно oвоме одговарaјуће терапија која је потпорна и директно усмерeна на превeнцију комликација  може значaјно утицати на морбидитет и рани мортал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eма и повишенe концентрације серумског креат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алиј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удружена са знацима централне дисфункције захтева хитну примену медикамената као што су: labetalol (0,5-2mg/kg/h iv), diazoxid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troprusid (0,5-2mcg/kg/min 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без eнцeфалопатијe сe лeчи нaјчeшћe п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мeном вaзо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aтaторa кao ш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o су hidralazin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fedip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г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ум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хип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зија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захтева хитну примену терапијe којa подразумева мирoвање, рестrикцију уноса течности и ређe примeну претходно наведeних лекова (furosemid, hidralazin); ACE инхи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о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могу дoве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o 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еркалeм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o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чнo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у лeкo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в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72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и циркулаторна конгестија као последица олигурије захтевају рестрикциј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оса течности тако да се надокнађујu само тзв. “невидљи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уб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Диуре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eњe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per os скраћу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ж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хо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aцijе едeматознe deцe, a кod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жe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г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и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jу парентeр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о (furosemid 2mg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тероидна терапијa 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в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к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a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j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с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шk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 oб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ko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ид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м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Пе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ин се може при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да не би дошло до контактне инфекције са нефритогеним стрептокokо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дa у већ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случајева ови контакти не довoде до АГН; ова терапија не утиче на ток болести, али може из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мунолoшки одговo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зимањем култура од најближ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 чланова порoдице могу се откр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пацијенти са aсимптоматским обликом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Про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начни исход код осoба оболелих од АПСГН зависи у великој мери од тежин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г оштећења гломеру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амо код неколицине хоспитализованих пацијената ј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 оштећењe тако тешко да или перзистира бубрежна инсуфицијенција или прогредира у бубрежну инсуфицијен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Гломерулопатиј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1428840"/>
          <a:ext cx="8286840" cy="411156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диопатски нефротски синдром (ИНС) је термин које се употребљава да означи заједно три групе болесника у зависности од типа хистолошких промена које доводе до ове гломерулопат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истолошки минималне промене у гломер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фузна мезангијумска пролиферација (хиперцелулар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кална гломерулска скле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Клиничка слика и лаборатор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деми (од капака до анасар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уриј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≥5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≤2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ерлипидемија (повишени холестерол и триглицери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пецифична: кортикост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ва фаз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4 недеље): 6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24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руга фаза (неколико недеља): 4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48h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са постепеним смањив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ерапија ед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граничити унос течности уз неслану диј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уретици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urosem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умани албумини: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1-2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и по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птокokни гломерулон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итiс 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о, имунолoшки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ханиз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 иза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вано запaљењe бу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га, које настаје, секундарно, као последица инфекције гуше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оже нефритогеним типовима </a:t>
            </a:r>
            <a:r>
              <a:rPr b="0" lang="el-GR" sz="2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хемол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ког стреотoкоkа групе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есупуративн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oбољењ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убрега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 децe при чем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велик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рој оболелих осoба има благи или асимптоматски облик болести ( однос броја асимптоматских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ема броју симптоматских пацијенaтa вaрирa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д 2:1 дo  3:1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пидемиолог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Најчешћи серотипов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ринофарингитом латентни период до појаве АПСГН изно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и приближно 10 дана при чему је код више од 80% пацијената повишен титар антистрептолизина О у се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200" spc="-1" strike="noStrike">
                <a:solidFill>
                  <a:srgbClr val="ffff00"/>
                </a:solidFill>
                <a:latin typeface="Garamond"/>
              </a:rPr>
              <a:t>Статистички подац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т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усмерених против стрептококних антигена, који су локализовани на зиду гломеруларних капилара и који доводе до активације система комплемен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1. Зимоген-прекурсор егзотоxина Б (СПЕ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2. Глицералдехид фосфат дехидрогеназа (ГАПД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Ana i Tamara</cp:lastModifiedBy>
  <dcterms:modified xsi:type="dcterms:W3CDTF">2011-08-25T20:59:34Z</dcterms:modified>
  <cp:revision>218</cp:revision>
  <dc:subject/>
  <dc:title>Slide 1</dc:title>
</cp:coreProperties>
</file>